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7A8E-A038-486C-A3E4-6B25EAAF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6663-FAB2-4ED7-AB62-FCED3E56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eaturepics.com/online/Green-Plants-Background-1387747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438A-4943-47EF-87B2-B4503A1E3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stem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8C36-5252-4551-8289-05CAFC42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unm.edu/ccouncil/Biology_203/Summaries/FloweringPlant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A26B-A847-4779-8787-0E9E22BC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potato tubers from: http://www.allwallpapershome.com/home-design-wallpapers/59278/tub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4457-E07A-4C13-A4ED-90BCFE34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perstaar.org/grade-2/life-science/210-adaptations-and-life-cycles/210b-characteristics-of-plants/water-movement-in-plant-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2AE9-5119-4C6B-96ED-08CA25017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nhabitat.com/plants-can-talk-to-each-other-by-clicking-their-roo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C67-BDD7-49A1-B83D-9B9A207C2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catedemeter.wordpress.com/2011/10/15/grounding-in-autumn-what-a-witch-does/roo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6B18-9E3A-4AAF-A032-D1EAA02FC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hhe.com/biosci/esp/2001_gbio/folder_structure/pl/m2/s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4539-D500-453B-912B-8498B97E8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web.furman.edu/~lthompson/bgy34/plantanatomy/plant_ro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4996-E242-4853-AEAD-D76C9BE2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answers.tutorvista.com/1087391/what-is-the-difference-of-endodermis-of-monocot-root-and-dicot-roo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C413-0FD9-4E61-9D12-D7722471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ycorrhizae: http://en.wikipedia.org/wiki/Mycorrh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A84A-AF33-434D-B511-6D5ACD2C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isglory.com/photos2/Green%20Leav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C0BF-A0F7-4F89-AF56-9122F445A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nitafredericks.com/food-focus-root-vegetables-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3A0E-93C5-4121-9D23-E6B04A07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.lifeeasy.org/810/what-is-the-difference-between-simple-leaf-and-compound-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8D6A-088C-4595-AAE9-3854F241B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bitesize/standard/biology/world_of_plants/making_food/revision/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1062-BEC3-491D-B63F-54A7EA6E8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hite spruce from: http://simple.wikipedia.org/wiki/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7566-14DC-4C18-B472-F486CA1D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 leaves used for roofing in Sri Lanka.  Image from: http://blog.trekurious.com/coconut-and-its-many-u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ctaviatea.com/pages/tea-gu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from: http://cooking.stackexchange.com/questions/26002/what-is-the-difference-between-green-white-and-black-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E676-9232-420E-8521-191559E5E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7BAB-481A-4033-8754-EF0BC043F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perstaar.org/grade-2/life-science/210-adaptations-and-life-cycles/210b-characteristics-of-plants/water-movement-in-plant-ste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33AA-A73C-4780-9CCB-DCD11F726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allpaperswide.com/bamboo_stems-wallpap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D72-174C-4292-9FB1-4336A2C3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56B-6E05-491C-8540-14E397B5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C73-222F-474B-AF03-EF6259E5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382-2FF0-4AE0-8C9F-B578186E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0A6-8BFD-4FDC-B62D-5268E709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C36-7ABE-46B2-802E-ED47DB10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953-C581-4329-9CFB-00F1E50F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4E8-7DF9-4783-B5AB-EDFB6B6D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821-8B08-4004-9DA8-11716A55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D64-AE35-4E69-A62B-E4DAA731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4C5-0BC1-4939-9A2A-E1113CB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0E7-29D6-4BD8-8850-331A6426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6762-5822-415C-88B0-26245DE07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s, stems, &amp;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baceous vs. Wo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stem-info0"/>
          <p:cNvPicPr/>
          <p:nvPr/>
        </p:nvPicPr>
        <p:blipFill>
          <a:blip r:embed="rId1"/>
          <a:stretch/>
        </p:blipFill>
        <p:spPr>
          <a:xfrm>
            <a:off x="2411280" y="1981080"/>
            <a:ext cx="43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cot vs. Eudicot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onocotDicotStemOverview"/>
          <p:cNvPicPr/>
          <p:nvPr/>
        </p:nvPicPr>
        <p:blipFill>
          <a:blip r:embed="rId1"/>
          <a:stretch/>
        </p:blipFill>
        <p:spPr>
          <a:xfrm>
            <a:off x="304920" y="1932120"/>
            <a:ext cx="85341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ground stems (tubers – e.g., potatoes, corms, rhizomes – e.g. ginger) store water and starch &amp; help with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ubers-10"/>
          <p:cNvPicPr/>
          <p:nvPr/>
        </p:nvPicPr>
        <p:blipFill>
          <a:blip r:embed="rId1"/>
          <a:stretch/>
        </p:blipFill>
        <p:spPr>
          <a:xfrm>
            <a:off x="4572000" y="2465280"/>
            <a:ext cx="41911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-based products (furniture, paper, etc.) &amp; wood for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(firewood, bio-ethanol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(potatoes, asparagus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iles (linen, hemp, bamboo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al uses (quinine bark, ginger,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plant and keep it 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 water &amp; nutrients from the soil or 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oots"/>
          <p:cNvPicPr/>
          <p:nvPr/>
        </p:nvPicPr>
        <p:blipFill>
          <a:blip r:embed="rId1"/>
          <a:stretch/>
        </p:blipFill>
        <p:spPr>
          <a:xfrm>
            <a:off x="4495680" y="261468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lm2s4_1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roottip_labled"/>
          <p:cNvPicPr/>
          <p:nvPr/>
        </p:nvPicPr>
        <p:blipFill>
          <a:blip r:embed="rId1"/>
          <a:stretch/>
        </p:blipFill>
        <p:spPr>
          <a:xfrm>
            <a:off x="1812960" y="609480"/>
            <a:ext cx="55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on"/>
          <p:cNvPicPr/>
          <p:nvPr/>
        </p:nvPicPr>
        <p:blipFill>
          <a:blip r:embed="rId1"/>
          <a:stretch/>
        </p:blipFill>
        <p:spPr>
          <a:xfrm>
            <a:off x="609480" y="2293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root"/>
          <p:cNvPicPr/>
          <p:nvPr/>
        </p:nvPicPr>
        <p:blipFill>
          <a:blip r:embed="rId2"/>
          <a:stretch/>
        </p:blipFill>
        <p:spPr>
          <a:xfrm>
            <a:off x="4572000" y="1771560"/>
            <a:ext cx="38862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80% of plants involved in  mycorrhiz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-fixing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220px-Mycorrhizal_root_tips_(amanita)"/>
          <p:cNvPicPr/>
          <p:nvPr/>
        </p:nvPicPr>
        <p:blipFill>
          <a:blip r:embed="rId1"/>
          <a:stretch/>
        </p:blipFill>
        <p:spPr>
          <a:xfrm>
            <a:off x="5045040" y="1600200"/>
            <a:ext cx="3168720" cy="2362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076_nitrogen"/>
          <p:cNvPicPr/>
          <p:nvPr/>
        </p:nvPicPr>
        <p:blipFill>
          <a:blip r:embed="rId2"/>
          <a:stretch/>
        </p:blipFill>
        <p:spPr>
          <a:xfrm>
            <a:off x="4267080" y="4038480"/>
            <a:ext cx="40388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ite of photosynthesis in most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exchange between interior of plant and exter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Green Leaves"/>
          <p:cNvPicPr/>
          <p:nvPr/>
        </p:nvPicPr>
        <p:blipFill>
          <a:blip r:embed="rId1"/>
          <a:stretch/>
        </p:blipFill>
        <p:spPr>
          <a:xfrm>
            <a:off x="4572000" y="2055960"/>
            <a:ext cx="42670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 (e.g., garlic, on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al (e.g., ginse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Root-Vegetables-Photo-610x408"/>
          <p:cNvPicPr/>
          <p:nvPr/>
        </p:nvPicPr>
        <p:blipFill>
          <a:blip r:embed="rId1"/>
          <a:stretch/>
        </p:blipFill>
        <p:spPr>
          <a:xfrm>
            <a:off x="4495680" y="2624040"/>
            <a:ext cx="43434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imple_compound_lvs01"/>
          <p:cNvPicPr/>
          <p:nvPr/>
        </p:nvPicPr>
        <p:blipFill>
          <a:blip r:embed="rId1"/>
          <a:stretch/>
        </p:blipFill>
        <p:spPr>
          <a:xfrm>
            <a:off x="2536920" y="1981080"/>
            <a:ext cx="407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leaf_structure_al"/>
          <p:cNvPicPr/>
          <p:nvPr/>
        </p:nvPicPr>
        <p:blipFill>
          <a:blip r:embed="rId1"/>
          <a:stretch/>
        </p:blipFill>
        <p:spPr>
          <a:xfrm>
            <a:off x="952560" y="609480"/>
            <a:ext cx="723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Specia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of plants through physical or chemical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mnosperm leaves specialized to prevents cells from fr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20px-Fichtennadel"/>
          <p:cNvPicPr/>
          <p:nvPr/>
        </p:nvPicPr>
        <p:blipFill>
          <a:blip r:embed="rId1"/>
          <a:stretch/>
        </p:blipFill>
        <p:spPr>
          <a:xfrm>
            <a:off x="4648320" y="1676520"/>
            <a:ext cx="411480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&amp; beverages, e.g., various herb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mellia sinen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x (from cuticle) used in cosmetic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&amp; psychotropic chemicals used in medicin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MG_2860"/>
          <p:cNvPicPr/>
          <p:nvPr/>
        </p:nvPicPr>
        <p:blipFill>
          <a:blip r:embed="rId1"/>
          <a:stretch/>
        </p:blipFill>
        <p:spPr>
          <a:xfrm>
            <a:off x="4938840" y="1523880"/>
            <a:ext cx="3305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670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, green, oolong, &amp; black tea all come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mellia sinen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processing lead to different amounts of caffeine &amp; antioxid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4" descr="types-of-tea.jpg"/>
          <p:cNvPicPr/>
          <p:nvPr/>
        </p:nvPicPr>
        <p:blipFill>
          <a:blip r:embed="rId1"/>
          <a:srcRect l="-35491" t="0" r="-35491" b="0"/>
          <a:stretch/>
        </p:blipFill>
        <p:spPr>
          <a:xfrm>
            <a:off x="4572000" y="1557360"/>
            <a:ext cx="3816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vascular tissue in leaves to vascular tissue i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ther structures 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amboo_stems-t2"/>
          <p:cNvPicPr/>
          <p:nvPr/>
        </p:nvPicPr>
        <p:blipFill>
          <a:blip r:embed="rId1"/>
          <a:stretch/>
        </p:blipFill>
        <p:spPr>
          <a:xfrm>
            <a:off x="4343400" y="2558880"/>
            <a:ext cx="4572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6-11-22T15:56:13Z</dcterms:modified>
  <cp:revision>103</cp:revision>
  <dc:subject/>
  <dc:title>PowerPoint Presentation</dc:title>
</cp:coreProperties>
</file>